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365F-929C-4E1D-AB1F-EE710045D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756B-9C4A-4627-8432-E45A1913D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5D6E-DE64-4400-9B0D-C7A0CE3E0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F75E-03C3-4898-BA98-F3E8E36BD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E30A-E623-4C48-B4C8-5FC3ED9A7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403D-C6D2-4146-AAA1-CA78CD6DA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A58A-8FAE-412D-BDBE-F7444FD7E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1745-F5C1-4A61-A156-DE7E5C365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0FF6-5FAF-404D-9300-6E1F81789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7423-D3C7-4145-9BEB-85A2E67D5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9923-CCE8-4618-84A7-7DCFB1D92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9A6F-6DA4-404A-864B-528FBB35E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B219-D5C0-431C-8D63-17F877700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B245-C00B-4C96-8A32-6FFE5B876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1C43-6BE5-40B5-99A2-A78BF1078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1EF8-A6A0-4F79-9201-DF31F7945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44BD8-1AE0-465F-882C-C83B5EA87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B232-5F0A-41CA-BE16-AB0EEC1E4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80F2-62C3-4F77-BD62-0FDA2D70A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9AFC-EDD8-428F-83D3-629AA13DE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02CE-1B91-4E5C-BB0A-2260A63B6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69B5-9662-425B-9821-CA207B371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118A-C16F-4C41-B92F-C0CCAD559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CAF9-F16B-4016-917B-EE823F30C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C2FF-9F55-4934-A9DB-AB7EC40AD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77C09-E0F6-4BBC-B440-6C064E5AB1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650D1-08A7-47C5-ABC1-2EFA014CAC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B7AAB-11AD-4614-A36C-5DF7EC7F87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6F477-032C-4C12-AEC1-37371B79C5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C3DBB-BA95-4252-BC40-12B4816C30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8A705-28D4-41BA-BE30-7E0FD239F0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80AD8-2780-4F68-B351-121EC9E945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48347-63E7-48CE-9ECF-5E489EAE94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9C583-D089-460E-968B-E49A6C6A20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350B7-3684-4F2C-BC59-3D8B16E213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D0C88-FBEE-47EB-9713-38976A06D1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7DB3E-2EE4-40F2-81A8-9B5E56F79A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B4D7-A3FD-4CE9-9E7E-A96F81AE8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8" descr="Picture 007"/>
          <p:cNvPicPr/>
          <p:nvPr/>
        </p:nvPicPr>
        <p:blipFill>
          <a:blip r:embed="rId2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543240" y="303120"/>
            <a:ext cx="818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 Mobility Multipurpose Wheeled Vehicle (HMMWV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gress Assistance Tr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TRADOC_HEAT.wmv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127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932040" y="75240"/>
            <a:ext cx="72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s When Rollover Anticipated Not Into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61520" y="1338120"/>
            <a:ext cx="5991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5745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nn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Shouts, "Rollover, Rollover, Rollover!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Pushes/pulls self down into the vehi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Holds onto a stationary ob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Tucks head and chin into chest and braces for impa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) Does not place hands or fingers on turr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537840" y="4191120"/>
            <a:ext cx="6105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5745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Crewmemb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Shout, “Rollover, Rollover, Rollover!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Assist VC to pull gunner into the vehicle and hold hi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Tuck heads and chins into chests and brace for impa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Hold onto a stationary ob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698040" y="74880"/>
            <a:ext cx="768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 Entry Is Immi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ther Or Not The Potential For A Rollover Exi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311760" y="1674720"/>
            <a:ext cx="777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568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C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When in the vicinity of water and tactical conditions permit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8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Informs vehicle crew that the vehicle is operating around water haz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8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Reminds the crew of the risk mitigating meas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8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Unlocks the combat door 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8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Ensures all loose gear and cargo are secu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14840" y="3975120"/>
            <a:ext cx="8362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568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0"/>
                <a:tab algn="l" pos="568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eases the accelerator; controls entry by steering into the body of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68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Yells "Water!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68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Keeps hands on the steering wheel with arms extended but not lock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68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Plants feet firmly on the flo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68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) Tucks head and chin into chest and braces for impa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698040" y="74880"/>
            <a:ext cx="768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 Entry Is Immi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ther Or Not The Potential For A Rollover Exi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461520" y="957240"/>
            <a:ext cx="7284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568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8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Shouts, "Water!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8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Uses left hand to pull gunner into the vehi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8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Uses left hand and arm to hold the gunner in pl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8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Plants feet firmly on the floor while holding onto a stationary ob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8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) Tucks head and chin into chest and braces for an impa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461520" y="4859280"/>
            <a:ext cx="6788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5745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crewmembers (if presen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Shout, "Water!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Assist VC to pull gunner into the vehicle and hold hi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Tuck head and chin into chest and brace for impa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Plant feet firmly on floor while holding onto a stationary ob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461520" y="2709720"/>
            <a:ext cx="7284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568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nn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8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Yells, "Water!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8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Pushes/pulls self down into the vehi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8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Slides feet in the direction of the vehicle's mov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8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Plants feet firmly on the floor while holding onto a stationary ob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8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) Tucks head and chin into chest and braces for impa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8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6) Does not place hands or fingers on turre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2344680" y="1447200"/>
            <a:ext cx="435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ABLING LEARNING OBJECTIVE B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33520" y="2590920"/>
          <a:ext cx="7848360" cy="1904760"/>
        </p:xfrm>
        <a:graphic>
          <a:graphicData uri="http://schemas.openxmlformats.org/drawingml/2006/table">
            <a:tbl>
              <a:tblPr/>
              <a:tblGrid>
                <a:gridCol w="1568160"/>
                <a:gridCol w="62802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ON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derstand measures to take after rollove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DITION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 a classroom, provided instruction on reactive measures, crewman duties and emergency steps to take in case of a vehicle rollover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NDARD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entify reactive measures to take in case of a HMMWV vehicle rollover by answering the check-on-learning questions posed by instructor with a minimum of 80%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2423520" y="75240"/>
            <a:ext cx="42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2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Rollover (Not In W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646200" y="818280"/>
            <a:ext cx="8345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crewmember, whether driver, VC, or rear cre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Braces one hand on the ceil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Unbuckles seatbelt with other hand and immediately puts both hands on ceil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Slides out of seat and sits 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Disconnects heads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) Turns off motor (drive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6) Orients self on the nearest do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7) Unlocks combat door 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8) Opens door; if it does not open, try a different door. (Shouts Door to notify other soldiers of open door allowing egr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9) Exits with weap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0) Assists remaining crew to ex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1) Establishes secur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2) Checks for fi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3) Activates fire extinguisher, as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4) Recovers sensitive i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5) Provides first a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6) Assists in vehicle recov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423520" y="75240"/>
            <a:ext cx="42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2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Rollover (Not In W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892080" y="1188720"/>
            <a:ext cx="779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nn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Disconnects heads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Releases Gunners Restraint System/Product Improved Gunner’s Restrai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Orients self on the nearest do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Unlocks combat door 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) Opens door; if it does not open, tries a different do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6) Exits with weap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7) Assists crew to ex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8) Establishes secur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9) Checks for fi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0) Activates fire extinguisher, as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1) Recovers sensitive i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2) Provides first a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3) Assists in vehicle recov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2587320" y="75240"/>
            <a:ext cx="39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Vehicle Rolls Onto S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024560" y="1389600"/>
            <a:ext cx="6993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5634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level Soldiers, if 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34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34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Unbuckle seat be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34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Assist upper Soldiers to unfasten seat belts then carefully lo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34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34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w, if doors are jamm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34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34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Exit through hatch or cargo area if pos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34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Work as a team to open jammed do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2665800" y="75240"/>
            <a:ext cx="37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Rollover (In Water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583560" y="865080"/>
            <a:ext cx="799596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crewmembe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) Turn off motor (drive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2) Disconnect head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3) Unbuckle seatbelt with other hand and immediately put both hands on ceil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4) Unlock combat door locks if not already unlock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5) Decide whether or not to remove personal equip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6) Exit the vehic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7) Assist each other to exit and secure weap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8) Assess inju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9) Get to safest sho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0) Provide secur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1) Account for other crewme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2) Provide/seek first ai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3) Retrieve weapons, ammunition, and sensitive ite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4) Assist with vehicle recover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) Accounts for weapons, ammunition, and sensitive i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2) Requests medical support, if requi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3) Reports accid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2364840" y="75240"/>
            <a:ext cx="44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 Rescue Recovery Dri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-51120" y="1361520"/>
            <a:ext cx="445896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55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Rescuers secure the accident si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55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5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. Stay in contact with the vehic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5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5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. Rescuers tie a rope/cable to the vehic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5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aid rescu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5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5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. Open doors and hatch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5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5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. Turn vehicle if doors and hatch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5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e not accessi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5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5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. Seek out the highest point on vehic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5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4267080" y="1365120"/>
            <a:ext cx="45720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. Ensure all survivors have ai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. Check for other injuries and apply first ai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. Remove personal equipm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. Move injured personnel to the highest point on the vehic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 Evacuate safest location, depending 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) Enemy situ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2) Water level and 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3) Water temper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4) Distance to water's e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5) Anticipation of resc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3035520" y="75240"/>
            <a:ext cx="30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 On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458640" y="961200"/>
            <a:ext cx="838044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. A combat patrol loaded M1114, with a normal center of gravity (cg) and normal load can operate on slopes of up t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 20 degre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. 25 degre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30 degrees.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 98.6 degre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. The critical (rollover) angle for current version in theater up-armored HMMWV is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 20 degre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. 25 degre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30 degre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 98.6 degre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. The corrective action before reaching the critical rollover angle is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 Jerk the wheel back to the center of the roa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. All occupants yell, “Water!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Gradually reduce speed and ease the vehicle back onto the roadway at a safe spee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 Secure the coolers and secure voice radi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. During egress, you find the door you’re attempting to exit won’t open.  You should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 Inflate your water wings, kick out the windshield, and swim away from the enem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. Don’t panic - find a door that work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Stay put and call the Auto club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 Stay put and call QRF on the secure voice radi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137680" y="318240"/>
            <a:ext cx="506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inal Learning Objec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371600" y="1371600"/>
          <a:ext cx="6781680" cy="2057400"/>
        </p:xfrm>
        <a:graphic>
          <a:graphicData uri="http://schemas.openxmlformats.org/drawingml/2006/table">
            <a:tbl>
              <a:tblPr/>
              <a:tblGrid>
                <a:gridCol w="1211400"/>
                <a:gridCol w="55702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on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form clearing, and egress procedures with the HE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dition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the HEAT wearing required combat equipment , given instruction on actions to take to preclude and reactive measures during/after a HMMWV rollover as a HMMWV crewmember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ndard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perly evacuate the HEAT while adhering to applicable safety precautions and procedures outlined in this lesson and applicable referenc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3035520" y="75240"/>
            <a:ext cx="30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 On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152280" y="1257120"/>
            <a:ext cx="8915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.  What are the egress actions for the Gunner following a rollover on dry land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 Disconnect headset, release gunner’s restraint system, assess injuries, clear and check weapon, exit vehicle with weapon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. Assist crew to exit, establish security, recover sensitive items, provide first aid and assist in vehicle recover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a and b abo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 Leap from the vehicle before it roll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. What are the immediate actions of the Driver should an entry into the water be imminent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 Release the accelerator; yell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“Water!”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nd keep hands on the steering whe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. Tuck head and chin into chest and brace for impact; and steer vehicle to control entry into the water to prevent rollove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a and b abo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 Leap from the vehicle before it hits the wate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7. Prior to releasing your seatbelt for egress, and immediately afterward, you mus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 Brace with one hand against what was the ceiling (consider which hand you should brace with) – your neck cannot support your body weight during a fall; unfasten your seatbelt with the other ha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. Unfasten your seatbelt with one hand, pushing firmly until it pops loose.  You may have to push against the floor with your bracing hand to allow the seatbelt to unfas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a and b abov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Take out your k-bar and cut the thing of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3035520" y="75240"/>
            <a:ext cx="30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 On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52920" y="1592640"/>
            <a:ext cx="903852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hat is the purpose of the combat door lock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 prevent aggressors from entering the vehicle in a hostile are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t interfaces with the Lojack circuitry, and assists police in recovery of a stolen HMMW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t jettisons the door if moisture is detected during a water ent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re is no difference between a combat door lock and a conventional door loc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9.  When operating near bodies of water or crossing bridges, the HMMWV crew should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 Inform crewmembers of the water hazard, loosen seatbelts, slow dow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. Identify water hazards, unlock combat locks, remove seatbelts, slow dow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Slow down, inform crewmembers of possible water hazards, unlock combat locks (enemy situation permitting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 Look for alternate rou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.  To reduce the risk of being involved in a rollover, HMMWV crews should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 Check tires for proper inflation and serviceability, and slow dow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. Slow down, don’t overload the vehicle, check condition and serviceability of tires, secure loa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Ensure operators are properly licens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 Limit crews operating in the vehicle to four or les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3035520" y="75240"/>
            <a:ext cx="30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 On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312840" y="1138320"/>
            <a:ext cx="860256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1.  What can gunners do to minimize their injuries when involved in a rollove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 Try to jump away from the vehic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. Lower yourself and brace for impa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Yell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“Rollover!”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while lowering yourself into the vehicle, bracing for impa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 Call the Automobile Club and complain about that last sharp curve in the roa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2.  What preventive measures can be taken to minimize the chances of being involved in a rollove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 Make a detailed Power Point presentation of any sharp curve in the road for emailing to your Congressman in a formal yet anonymous complain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. License and certify all crews on the HEAT, and train as a tea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Slow down, avoid panic, know proper vehicle maneuvering, use caution in rural areas with soft shoulders, and identify water haza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 None of the above – only tracking your number of days left in country will hel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3.  Other than the driver and gunner, what are the duties of the crew in the event of a rollover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 Yell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“Rollover!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. Grab the gunner and pull them into the crew compartment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Brace for impa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 All of the abov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2344680" y="38052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ABLING LEARNING OBJECTIVE 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ctical Exerci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33520" y="1066680"/>
          <a:ext cx="7924680" cy="1524240"/>
        </p:xfrm>
        <a:graphic>
          <a:graphicData uri="http://schemas.openxmlformats.org/drawingml/2006/table">
            <a:tbl>
              <a:tblPr/>
              <a:tblGrid>
                <a:gridCol w="1584360"/>
                <a:gridCol w="63403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ION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AT operator performance drill familiar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DITION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the HEAT trainer with required equipment and previous traini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NDARD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perly evacuate the HEAT while and adhering to applicable safety precautions and procedures outlined in this lesson and applicable referenc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609480" y="3048120"/>
          <a:ext cx="7772400" cy="268596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39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w/Battle Drill Descri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 The first drill is for familiarization, pausing to highlight the 30- and 25-degree critical rollover angles and righting the device back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 The second drill shall be a “dry run” – completely rolling over (inverted) – no actual release of the seatbelts or gunner’s harness will be made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 The third will entail inverting the device, and participants actually exiting the device, as though it had rolled on dry land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 After righting the device, crew rotating seats and re-entering the device – the fourth drill will entail inverting the device, simulating a water entry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3240" y="696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57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2344680" y="38052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ABLING LEARNING OBJECTIVE 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ctical Exerci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Gunners_Restraint.wmv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30544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04920" y="8820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llover battle drills create an understanding of and how to react to the violent chaos that results when a rollover has occurr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33520" y="2906640"/>
          <a:ext cx="8001000" cy="1893960"/>
        </p:xfrm>
        <a:graphic>
          <a:graphicData uri="http://schemas.openxmlformats.org/drawingml/2006/table">
            <a:tbl>
              <a:tblPr/>
              <a:tblGrid>
                <a:gridCol w="1600200"/>
                <a:gridCol w="640080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ON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derstand preventive measures to preclude rollo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DITION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 a classroom, provided instruction on preventive and reactive measures, crewman duties and emergency steps to take to preclude a vehicle rollover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NDARD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entify precautionary measures to take to prevent a HMMWV vehicle rollover by answering the check-on-learning questions posed by instructor with a minimum of 80%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17"/>
          <p:cNvSpPr/>
          <p:nvPr/>
        </p:nvSpPr>
        <p:spPr>
          <a:xfrm>
            <a:off x="2344680" y="2285280"/>
            <a:ext cx="435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ABLING LEARNING OBJECTIVE 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25 desert_hmmwv_01"/>
          <p:cNvPicPr/>
          <p:nvPr/>
        </p:nvPicPr>
        <p:blipFill>
          <a:blip r:embed="rId1"/>
          <a:stretch/>
        </p:blipFill>
        <p:spPr>
          <a:xfrm>
            <a:off x="762120" y="2359080"/>
            <a:ext cx="3120840" cy="2670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30 desert_hmmwv_01"/>
          <p:cNvPicPr/>
          <p:nvPr/>
        </p:nvPicPr>
        <p:blipFill>
          <a:blip r:embed="rId2"/>
          <a:stretch/>
        </p:blipFill>
        <p:spPr>
          <a:xfrm>
            <a:off x="5334120" y="2289240"/>
            <a:ext cx="3200400" cy="2816280"/>
          </a:xfrm>
          <a:prstGeom prst="rect">
            <a:avLst/>
          </a:prstGeom>
          <a:ln w="0">
            <a:noFill/>
          </a:ln>
        </p:spPr>
      </p:pic>
      <p:sp>
        <p:nvSpPr>
          <p:cNvPr id="54" name="Line 4"/>
          <p:cNvSpPr/>
          <p:nvPr/>
        </p:nvSpPr>
        <p:spPr>
          <a:xfrm>
            <a:off x="228600" y="5029200"/>
            <a:ext cx="86868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 flipH="1" flipV="1">
            <a:off x="380880" y="3885840"/>
            <a:ext cx="2438640" cy="1143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 flipH="1" flipV="1">
            <a:off x="4876560" y="3581280"/>
            <a:ext cx="2514600" cy="144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5459400" y="1491840"/>
            <a:ext cx="32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at Patrol-loaded M111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 than 3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2818800" y="75240"/>
            <a:ext cx="35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ical Rollover Ang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304920" y="1279080"/>
            <a:ext cx="4012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Version of Up-armored HMMW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755640" y="6248520"/>
            <a:ext cx="25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ss with higher-cg loa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rc 11"/>
          <p:cNvSpPr/>
          <p:nvPr/>
        </p:nvSpPr>
        <p:spPr>
          <a:xfrm flipH="1">
            <a:off x="532800" y="4267080"/>
            <a:ext cx="609480" cy="762120"/>
          </a:xfrm>
          <a:custGeom>
            <a:avLst/>
            <a:gdLst>
              <a:gd name="textAreaLeft" fmla="*/ -360 w 609480"/>
              <a:gd name="textAreaRight" fmla="*/ 609480 w 60948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rc 12"/>
          <p:cNvSpPr/>
          <p:nvPr/>
        </p:nvSpPr>
        <p:spPr>
          <a:xfrm flipH="1">
            <a:off x="5257080" y="4191120"/>
            <a:ext cx="609480" cy="811080"/>
          </a:xfrm>
          <a:custGeom>
            <a:avLst/>
            <a:gdLst>
              <a:gd name="textAreaLeft" fmla="*/ -360 w 609480"/>
              <a:gd name="textAreaRight" fmla="*/ 609480 w 609480"/>
              <a:gd name="textAreaTop" fmla="*/ 0 h 811080"/>
              <a:gd name="textAreaBottom" fmla="*/ 811440 h 811080"/>
            </a:gdLst>
            <a:ahLst/>
            <a:rect l="textAreaLeft" t="textAreaTop" r="textAreaRight" b="textAreaBottom"/>
            <a:pathLst>
              <a:path fill="none" w="21600" h="22992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064"/>
                  <a:pt x="21585" y="22528"/>
                  <a:pt x="21555" y="22992"/>
                </a:cubicBezTo>
              </a:path>
              <a:path stroke="0" w="21600" h="22992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064"/>
                  <a:pt x="21585" y="22528"/>
                  <a:pt x="21555" y="22992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1145520" y="457200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5946120" y="457200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2671560" y="1509120"/>
            <a:ext cx="3448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ollovers are caus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dequate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centers of gr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r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ad condition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ing habi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condi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974320" y="76320"/>
            <a:ext cx="31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uses of Rollo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1297080" y="75240"/>
            <a:ext cx="648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iver Risk Management Control Meas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2713320" y="1068120"/>
            <a:ext cx="3914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just the vehicle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w 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 pan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 speed lim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rely on a "seat of the pants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wly acceler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 a "space cushion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 the temptation to brake h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3186000" y="75240"/>
            <a:ext cx="27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amwork is Ke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1833480" y="1153800"/>
            <a:ext cx="5461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1360"/>
                <a:tab algn="l" pos="58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as a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1360"/>
                <a:tab algn="l" pos="58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1360"/>
                <a:tab algn="l" pos="58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 crew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1360"/>
                <a:tab algn="l" pos="58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1360"/>
                <a:tab algn="l" pos="58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e with the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1360"/>
                <a:tab algn="l" pos="58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1360"/>
                <a:tab algn="l" pos="58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terrain or conditions favorable for a roll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1360"/>
                <a:tab algn="l" pos="58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1360"/>
                <a:tab algn="l" pos="58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 guide near bodies of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1360"/>
                <a:tab algn="l" pos="58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1360"/>
                <a:tab algn="l" pos="58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on team members within the veh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1360"/>
                <a:tab algn="l" pos="58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1360"/>
                <a:tab algn="l" pos="58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at 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1360"/>
                <a:tab algn="l" pos="58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1360"/>
                <a:tab algn="l" pos="58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how to get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1360"/>
                <a:tab algn="l" pos="58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2287080" y="7524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ce of Uparmored HMMWV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539640" y="1615680"/>
            <a:ext cx="536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emely-top he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hicle rollovers common and deadly occurr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Picture 007"/>
          <p:cNvPicPr/>
          <p:nvPr/>
        </p:nvPicPr>
        <p:blipFill>
          <a:blip r:embed="rId1"/>
          <a:stretch/>
        </p:blipFill>
        <p:spPr>
          <a:xfrm>
            <a:off x="4648320" y="2819520"/>
            <a:ext cx="3852720" cy="2908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Picture 016"/>
          <p:cNvPicPr/>
          <p:nvPr/>
        </p:nvPicPr>
        <p:blipFill>
          <a:blip r:embed="rId2"/>
          <a:srcRect l="0" t="0" r="0" b="37536"/>
          <a:stretch/>
        </p:blipFill>
        <p:spPr>
          <a:xfrm>
            <a:off x="304920" y="2819520"/>
            <a:ext cx="41907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982080" y="75240"/>
            <a:ext cx="71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s When Rollover Anticipated Not Into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540360" y="1338120"/>
            <a:ext cx="767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5745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Releases the accelera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Shouts, "Rollover, Rollover, Rollover!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Keeps hands on the steering wheel with arms extended but not lock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Plants feet firmly on the flo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) Tucks head and chin into chest and braces for impa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539280" y="3822840"/>
            <a:ext cx="7284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5745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hicle Commander (VC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Shouts, "Rollover, Rollover, Rollover!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Uses left hand to pull gunner into the vehi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Uses left hand and arm to hold the gunner in pl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Plants feet firmly on the floor while holding onto a stationary ob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) Tucks head and chin into chest and braces for an impa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9T17:24:57Z</dcterms:created>
  <dc:creator/>
  <dc:description/>
  <dc:language>en-US</dc:language>
  <cp:lastModifiedBy/>
  <dcterms:modified xsi:type="dcterms:W3CDTF">2014-12-09T17:25:00Z</dcterms:modified>
  <cp:revision>1</cp:revision>
  <dc:subject/>
  <dc:title/>
</cp:coreProperties>
</file>